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911D-CD51-474A-9F77-F89688523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9CAE-B2D9-4FEF-A207-D571F264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D1AF-BA4C-40FD-A377-605632CBD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6FA0-FEEA-46FE-92C3-B4719338B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081D-BF23-49C7-995A-601CA24E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6A0E-B0EE-4060-8586-FC94169E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E99B-02DF-4B74-879C-FDD3D041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D694-7CC9-4871-8AA1-43EF7DB5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EA34-64DB-4CA9-818A-59E4E255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1A83-7363-4619-90EA-946746AE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BDCF-27E1-4088-AC51-F804934E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BE6E-A85B-4D00-9155-57704E70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1dff"/>
            </a:gs>
            <a:gs pos="100000">
              <a:srgbClr val="410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4EB1-F328-45C1-97D2-8252DC0CA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web.mit.edu/invent/iow/pemberton.html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www.coca-colastore.com/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361000">
            <a:off x="609120" y="837720"/>
            <a:ext cx="6945480" cy="46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5856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9900ff"/>
                    </a:gs>
                  </a:gsLst>
                  <a:lin ang="664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ca-Cola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9900ff"/>
                  </a:gs>
                </a:gsLst>
                <a:lin ang="6642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5257800" y="571500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10280" y="5253120"/>
            <a:ext cx="2133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bruary 22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6104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6019920"/>
            <a:ext cx="69343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rsting_Into_Tears_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March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reeplaymusic.com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207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Pemberton"/>
          <p:cNvPicPr/>
          <p:nvPr/>
        </p:nvPicPr>
        <p:blipFill>
          <a:blip r:embed="rId2"/>
          <a:stretch/>
        </p:blipFill>
        <p:spPr>
          <a:xfrm>
            <a:off x="0" y="0"/>
            <a:ext cx="4648320" cy="4952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800600" y="4419720"/>
            <a:ext cx="4343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Pemberton"/>
          <p:cNvPicPr/>
          <p:nvPr/>
        </p:nvPicPr>
        <p:blipFill>
          <a:blip r:embed="rId3"/>
          <a:stretch/>
        </p:blipFill>
        <p:spPr>
          <a:xfrm>
            <a:off x="0" y="4719600"/>
            <a:ext cx="9144000" cy="2138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648320" y="2895480"/>
            <a:ext cx="449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Lemelson MIT, </a:t>
            </a:r>
            <a:r>
              <a:rPr b="0" lang="en-US" sz="2800" spc="-1" strike="noStrike" u="sng">
                <a:solidFill>
                  <a:srgbClr val="ff00ff"/>
                </a:solidFill>
                <a:uFillTx/>
                <a:latin typeface="Arial"/>
              </a:rPr>
              <a:t>Pemberton,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2-28-11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eb.mit.edu/invent/iow/pemberton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16in. Bullseye Metal Sign"/>
          <p:cNvPicPr/>
          <p:nvPr/>
        </p:nvPicPr>
        <p:blipFill>
          <a:blip r:embed="rId5"/>
          <a:stretch/>
        </p:blipFill>
        <p:spPr>
          <a:xfrm>
            <a:off x="4648320" y="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19920" y="0"/>
            <a:ext cx="3124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Coca-Cola Store ,</a:t>
            </a:r>
            <a:r>
              <a:rPr b="0" lang="en-US" sz="2800" spc="-1" strike="noStrike" u="sng">
                <a:solidFill>
                  <a:srgbClr val="66ffff"/>
                </a:solidFill>
                <a:uFillTx/>
                <a:latin typeface="Arial"/>
              </a:rPr>
              <a:t> Bulls eye metal sign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  ,2-28-11 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coca-colastore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nvention: Coca-Co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Until 1905, it contained extracts of cocaine and the Kola nut.</a:t>
            </a:r>
            <a:r>
              <a:rPr b="0" lang="en-US" sz="2800" spc="-1" strike="noStrike">
                <a:solidFill>
                  <a:srgbClr val="0000ff"/>
                </a:solidFill>
                <a:latin typeface="com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60093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comic"/>
              </a:rPr>
              <a:t>Today billions drink Coca-Cola everyday in nearly every nation in the world.</a:t>
            </a:r>
            <a:r>
              <a:rPr b="0" lang="en-US" sz="2400" spc="-1" strike="noStrike">
                <a:solidFill>
                  <a:srgbClr val="660066"/>
                </a:solidFill>
                <a:latin typeface="com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"/>
              </a:rPr>
              <a:t>By the end of the decade, Coca-Cola had become one of the nations most popular fountain drinks, sold all over the Untied States, as well as Can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ff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comic"/>
              </a:rPr>
              <a:t>During the company’s early years, the Coca-Cola formula was alternated several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"/>
              </a:rPr>
              <a:t>They began selling Coca-Cola in the bottles and also selling syrup to independent bottling compan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439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9900ff"/>
            </a:gs>
            <a:gs pos="100000">
              <a:srgbClr val="ff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Inventor: John Pember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dwardian Script ITC"/>
              </a:rPr>
              <a:t>Born in 1831 in Knoxville, Georg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Edwardian Script ITC"/>
              </a:rPr>
              <a:t>He created the original formula in 1885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Edwardian Script ITC"/>
              </a:rPr>
              <a:t>He fought in for the South during the Civil W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ccff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Edwardian Script ITC"/>
              </a:rPr>
              <a:t>He moved to Atlanta after the war where he began selling patent medicines and operated his own laboratory, the Pemberton Chemical C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Edwardian Script ITC"/>
              </a:rPr>
              <a:t>Pemberton Is remembered for the drink as well as for his contributions to medical reform and chemis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042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8:32:16Z</dcterms:created>
  <dc:creator>install</dc:creator>
  <dc:description/>
  <dc:language>en-US</dc:language>
  <cp:lastModifiedBy>install</cp:lastModifiedBy>
  <dcterms:modified xsi:type="dcterms:W3CDTF">2011-03-11T18:30:59Z</dcterms:modified>
  <cp:revision>12</cp:revision>
  <dc:subject/>
  <dc:title>Slide 1</dc:title>
</cp:coreProperties>
</file>